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D592-50E9-44A0-9C6F-9E7958FF1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70B9-9C0B-4B68-925E-55040FDE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D0AB-FA18-4617-BEF9-129FA5C9F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1018-D085-4E40-A47A-B5C3D2A1A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C9E5-B1A2-4E54-B86F-2923A94E7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DA27-1C22-48DF-A912-912A5068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CEA3-BA73-4EB6-BC74-53A4CCD4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B290-FEDB-4450-87F4-210EB9D4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FE80-2E70-46A9-9353-BABCF583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13FA-38D0-4F26-A3A1-D66B9EFB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6313-BB8B-44E2-8857-8490FA29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EC6F-0B64-4783-85E9-B1141E8B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98E7-83D3-41D7-8508-9A0FECA1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F204-BBB7-47F5-AF7E-39CFDF5C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89CB-9406-477C-8A97-F3197BE2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E94E-375F-43F3-A1A7-96DFB5EA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C12D-75E8-4D42-954D-FB6CBFF1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EB21-C42B-4925-ABB6-6C5B2A82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3EA4-D103-4CB0-A247-9BA57D05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7AC4-66F7-4B5F-80EE-EAAD21C0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5CA2-CE4E-4BE7-8037-DF13D730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9475-5549-49A6-A7CD-0DE56380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5AD1-253F-488A-BB08-2786AF64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5801-62A2-447C-8BD2-9402ED90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B402-9343-4213-859F-5C0999E83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D206-84A4-42D3-BAEC-3E75C8E5D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lice_Springs,_Northern_Territory" TargetMode="External"/><Relationship Id="rId2" Type="http://schemas.openxmlformats.org/officeDocument/2006/relationships/hyperlink" Target="http://en.wikipedia.org/wiki/Birdsville,_Queensland" TargetMode="External"/><Relationship Id="rId3" Type="http://schemas.openxmlformats.org/officeDocument/2006/relationships/hyperlink" Target="http://en.wikipedia.org/wiki/Birdsville,_Queensland" TargetMode="External"/><Relationship Id="rId4" Type="http://schemas.openxmlformats.org/officeDocument/2006/relationships/hyperlink" Target="http://en.wikipedia.org/wiki/Broken_Hill,_New_South_Wales" TargetMode="External"/><Relationship Id="rId5" Type="http://schemas.openxmlformats.org/officeDocument/2006/relationships/hyperlink" Target="http://en.wikipedia.org/wiki/Coober_Pedy,_South_Australia" TargetMode="External"/><Relationship Id="rId6" Type="http://schemas.openxmlformats.org/officeDocument/2006/relationships/hyperlink" Target="http://en.wikipedia.org/wiki/Devils_Marbles" TargetMode="External"/><Relationship Id="rId7" Type="http://schemas.openxmlformats.org/officeDocument/2006/relationships/hyperlink" Target="http://en.wikipedia.org/wiki/Kakadu_National_Park" TargetMode="External"/><Relationship Id="rId8" Type="http://schemas.openxmlformats.org/officeDocument/2006/relationships/hyperlink" Target="http://en.wikipedia.org/wiki/Kakadu_National_Park" TargetMode="External"/><Relationship Id="rId9" Type="http://schemas.openxmlformats.org/officeDocument/2006/relationships/hyperlink" Target="http://en.wikipedia.org/wiki/Kata_Tjuta" TargetMode="External"/><Relationship Id="rId10" Type="http://schemas.openxmlformats.org/officeDocument/2006/relationships/hyperlink" Target="http://en.wikipedia.org/wiki/Kata_Tjuta" TargetMode="External"/><Relationship Id="rId11" Type="http://schemas.openxmlformats.org/officeDocument/2006/relationships/hyperlink" Target="http://en.wikipedia.org/wiki/Kata_Tjuta" TargetMode="External"/><Relationship Id="rId12" Type="http://schemas.openxmlformats.org/officeDocument/2006/relationships/hyperlink" Target="http://en.wikipedia.org/wiki/Kings_Canyon,_Northern_Territory" TargetMode="External"/><Relationship Id="rId13" Type="http://schemas.openxmlformats.org/officeDocument/2006/relationships/hyperlink" Target="http://en.wikipedia.org/wiki/Kings_Canyon,_Northern_Territory" TargetMode="External"/><Relationship Id="rId14" Type="http://schemas.openxmlformats.org/officeDocument/2006/relationships/hyperlink" Target="http://en.wikipedia.org/wiki/Kings_Canyon,_Northern_Territory" TargetMode="External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The Outback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e by Kalyn Kauf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What is the Outback?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utback is an immense, secluded, dry area of Austral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pression “the outback” is used to refer to spots that are relatively more secluded than “the bush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Outback History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ween 1858 and 1861 Jon McDouall Stuart led six journeys into the outb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ration of the outback was continued in the 1950s when Len Beadell explored, surveyed and built many roads in support of the nuclear weapons t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in 2006, Anna Hingley was the first woman to make the journey riding a hor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Mining In The Outback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ng is one of the other main economic activities in the area, the others being agriculture and touris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uff you can find when you’re mining in the outback are: iron, aluminum, manganese, uranium ores, and you can also find  gold, nickel, iron, lead and zinc 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major mining areas are Coober Pedy, Lightning Ridge, White Cliffs, Broken Hill, Tennant Cliff, Olympic Dam, and Challeng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Outback’s Population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riginal homes in the outback areas have not been displaced as they have been in areas of rigorous farming and large cities, in coastal are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a significant proportion of the country's indigenous population lives in the Outbac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Outback Terminology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cept “back” country, which meant, land beyond the settled regions, was in existence in 18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rm “outback” was first used in 186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colloquially said that “the outback” was beyond the black stum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ver-Never” is a term referring to remoter parts of the Australian outb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Wildlife in the Outback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will find kangaroos and dingoes, hiding in bus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will see huge flocks budgerigars, cockatoos, corellas, and gala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will see various snakes and lizards all over the roa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ay also see camels and wild horses called ‘brumbies’, pigs, foxes, cats, and some rabb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Touring Sites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ow is a list of touring si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Alice Springs, Northern Territo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Birdsville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, Queensla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Broken Hill, New South Wal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oober Pedy, South Australi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Devils Marbl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7"/>
              </a:rPr>
              <a:t>Kakadu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8"/>
              </a:rPr>
              <a:t> National Par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9"/>
              </a:rPr>
              <a:t>Kata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10"/>
              </a:rPr>
              <a:t>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11"/>
              </a:rPr>
              <a:t>Tjut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The Olg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12"/>
              </a:rPr>
              <a:t>Kings Canyon (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13"/>
              </a:rPr>
              <a:t>Watarrka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14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cDonnell Rang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unt Isa, Queensl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unt Augustus National Par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nnant Creek, Northern Territo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llandra Lakes Reg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The End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7:58:38Z</dcterms:created>
  <dc:creator>Classroom/Lab</dc:creator>
  <dc:description/>
  <dc:language>en-US</dc:language>
  <cp:lastModifiedBy>Classroom/Lab</cp:lastModifiedBy>
  <dcterms:modified xsi:type="dcterms:W3CDTF">2010-12-16T17:54:12Z</dcterms:modified>
  <cp:revision>10</cp:revision>
  <dc:subject/>
  <dc:title>The Outback</dc:title>
</cp:coreProperties>
</file>